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DA52-BFE9-4141-BBCE-38C6453C1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4B6A-07C4-49FA-8977-87AB9A34851B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9C80-75F0-4191-BE33-86BF48864763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E06A-2211-46CE-BE32-9AB1EA3B864D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7F07-4CFB-479F-8B7D-ECEE2F472F0D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92A4-7A8E-47AB-B563-C396E0F17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0645-43E2-48EB-A77D-E9FB98B6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1B5A-D4F3-481E-94E6-03479B455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4094-3B34-410C-8FCA-9DBCBBA8C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1C6D-ECB6-4224-BC2B-DC3C8D856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4713-10EE-4C27-944D-8209CCDB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0950-BEB5-4148-A0AA-2589554C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29B6-1829-41F6-BE5A-BE824749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C407-8D27-4AEB-ACF6-DE2AA397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C613-1F00-451B-BD7C-2C1B8DF1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C11C-597C-45A3-A5D8-435EEC33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4320-69C6-4667-A4ED-B07C2F34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8E9B-5ACE-4FE9-8353-A5375AF7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C8E6-11BC-4BB3-9B8B-91717E53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6B77-B7D0-4108-9C51-952BC1D8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67EA-9932-483A-ADA4-C6212BEA5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B3E1-68F3-4699-8930-081877873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A246-0B44-4FFA-8E99-4038C6D6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9917-2C99-424F-9F0D-AB2A150A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7A9F-0E94-4931-9ECF-A3A25545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623D-260A-41BB-942D-BCF751CE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7831-0A96-47AF-AC34-C60C43B5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26C9-6C97-42CF-87CC-9C513EC4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5951-0C21-4291-AF9B-1800F077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2206-8DC4-47F0-A052-727C9238B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FF84-8FCB-4C32-A800-681E1616C89B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24379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Writing Learning Objectives </a:t>
            </a: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for your Lesson Plans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hree Criteria for a 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Learning Objectiv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Clear</a:t>
            </a: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Usually just one sentence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Precise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recise verbs that reflect the thinking your students will be doing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00"/>
                </a:solidFill>
                <a:latin typeface="Arial"/>
              </a:rPr>
              <a:t>Set a context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(Given…; After…; Before…)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Measurable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ow will you measure the “quality” (%age or criteria met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tart with the top level and work backwards through average and below averag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Writing Learning Objectiv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iven _____, students will _____ (verb and specifics) with (measurable) ____</a:t>
            </a:r>
            <a:br>
              <a:rPr sz="2800"/>
            </a:b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% accuracy or to a certain level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Reading Proces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: What strategy will students apply as they interact with this text? 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Response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How will students respond to the deeper meaning within the text?  (theme, character development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tudents will use a three-column “prediction journal” to make and revise at least two meaningful predictions in chapters 43 &amp; 44 and state the clues they used to make those predictions.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tudents will use a “Character Summary” worksheet to describe the personality and physical attributes of an assigned character as well as his/her relationship with Maniac Magee and his/her feelings toward racial segregation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Reading strategy objectiv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e student wil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redict and confirm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ummarize the key issu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onitor their understand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sk questions/reflec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how the relationship between concept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ake inferences and support with evidenc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raw conclusion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ake connections between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Visualiz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723600" y="6248520"/>
            <a:ext cx="756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Use your strategy textbook for examples and idea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Reading Response Objective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iscuss change/growth in character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spond to/reflect on “big ideas” or optimistic messag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spond by connecting to…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Noticing author’s craft (plot, language, etc.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Extend with interdisciplinary connections (art, poetry, drama, Internet workshop, journaling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e p. 421 &amp; 432 for other response ideas!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195480" y="6248520"/>
            <a:ext cx="87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Use your literature genres textbook for examples and idea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03:42:12Z</dcterms:created>
  <dc:creator>Julie Coiro</dc:creator>
  <dc:description/>
  <dc:language>en-US</dc:language>
  <cp:lastModifiedBy>Julie Coiro</cp:lastModifiedBy>
  <cp:lastPrinted>2009-11-10T04:01:33Z</cp:lastPrinted>
  <dcterms:modified xsi:type="dcterms:W3CDTF">2009-11-10T11:18:04Z</dcterms:modified>
  <cp:revision>176</cp:revision>
  <dc:subject/>
  <dc:title>Metacognitive Strategy Instruction to Enhance Reading Comprehension</dc:title>
</cp:coreProperties>
</file>